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60D-27A0-49F2-80BD-04550FFA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DB9-5E42-4477-9466-01739AE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D21-BB13-4572-A0EB-19EE3F68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94B-9501-4118-9A2C-A69C919B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D71D-319E-403C-A0B4-E68531A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5B7D-8FFF-4E79-9E94-3139477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C977-9DF4-466B-B94C-0E5CAA1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00F7-E418-40D2-AC07-F8E942C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6429-92DF-44C5-9FE5-2F79BCF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363B-7813-4385-8073-9DF559C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66D-EFC2-412C-AA53-82049874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03E-2EA8-4927-A391-E71E783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8D56-297B-4E8A-8198-1EEAB5F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6709-73C5-46DC-84FE-0E6CF53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D58-BF6C-45AE-A730-3D64A001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5F3-291D-41BB-901D-C75E1F4D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F779-A329-4EA2-A8D8-811B1A91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859-15FA-4ED8-B755-BF240A0F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B2C-410D-48F8-A5D0-4FE2B48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FA2-521B-47D5-B066-B46A095B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818-83D3-4DDF-AFEE-C21E8ED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8E1-ED72-4542-A115-FB48B0A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170-DE18-4C61-B63E-3E94EA1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B14-EFF6-49EB-B993-1E70BED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70CE-9513-4096-B6FC-BDBDC864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B1B4-4712-4B12-822B-301AF80D4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355760"/>
            <a:ext cx="716292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Quiz About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History</a:t>
            </a: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701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Robin Au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12/02/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)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)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1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What was the south’s main export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Tobac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cot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c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42670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3"/>
          <a:stretch/>
        </p:blipFill>
        <p:spPr>
          <a:xfrm>
            <a:off x="304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3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3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Tahoma"/>
              </a:rPr>
              <a:t>Question 2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apital of the confederate states of America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Montgom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ichm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13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Montgom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ichm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3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apital of the United States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"/>
          <p:cNvPicPr/>
          <p:nvPr/>
        </p:nvPicPr>
        <p:blipFill>
          <a:blip r:embed="rId4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71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38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3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3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4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ickname for Northern Soldiers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Yank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e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Country Bo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Red N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1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13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13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1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5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ickname for southern boys.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Yank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Re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Country Bo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Red N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4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138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3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71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ahoma"/>
              </a:rPr>
              <a:t>Question 6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What color represented the South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8098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G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Blue-Bl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138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13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13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7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ff"/>
                </a:solidFill>
                <a:uFillTx/>
                <a:latin typeface="Tahoma"/>
              </a:rPr>
              <a:t>Question 7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What color represented the North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G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blue-bl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13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3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1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16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Bonus Question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How did the North try to stop Southern trade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305080"/>
            <a:ext cx="35053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Atta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bu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Boyco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block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13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3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138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71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6:14:53Z</dcterms:created>
  <dc:creator>clay</dc:creator>
  <dc:description/>
  <dc:language>en-US</dc:language>
  <cp:lastModifiedBy> </cp:lastModifiedBy>
  <dcterms:modified xsi:type="dcterms:W3CDTF">2010-12-02T19:42:17Z</dcterms:modified>
  <cp:revision>4</cp:revision>
  <dc:subject/>
  <dc:title>Quiz About [Your topic] </dc:title>
</cp:coreProperties>
</file>